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F62-03CE-4F8C-9D7A-7B19BC61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EED-7089-4AC3-9736-B7C8E08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3E7-5C33-4EFA-8DF6-DACADEF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168-8F1E-4F37-871C-F33572F2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D05-CDB3-4603-9674-9EF1A16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8BE-ECEB-495B-86F2-4C1307C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A89-9CB0-4219-B62A-AA00FFB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0B9-88AA-480A-A8AE-5913972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BA7-BE6A-4D9F-9920-EC0176E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25E-C70E-4F5D-9669-FD550F3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BAA-12FF-44F2-A283-9E9A31B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3A4-A16C-4C2C-857D-30E13EF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454-245C-4641-B5D5-811419D2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French Script MT"/>
              </a:rPr>
              <a:t>By Jasmine Mor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160020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Acapulc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LTON HEAD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GALV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EM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304920"/>
            <a:ext cx="366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>
                    <a:alpha val="82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Great Locations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>
                  <a:alpha val="82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289584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581640" cy="18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28958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ORA B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JAM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UERTO 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RTAL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228600"/>
            <a:ext cx="4724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THE WORLD'S MOST BEAUTIFUL BEACHE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Bre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iful Su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38088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a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a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Ya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609480"/>
            <a:ext cx="2286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Activ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32:08Z</dcterms:created>
  <dc:creator>004student</dc:creator>
  <dc:description/>
  <dc:language>en-US</dc:language>
  <cp:lastModifiedBy>004student</cp:lastModifiedBy>
  <dcterms:modified xsi:type="dcterms:W3CDTF">2009-01-23T17:16:24Z</dcterms:modified>
  <cp:revision>2</cp:revision>
  <dc:subject/>
  <dc:title>Slide 1</dc:title>
</cp:coreProperties>
</file>